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66B-BC4E-4502-98D6-96A73925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01A-33B0-41F2-8271-A745B3A1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213-4483-4D73-BB73-E8C88695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A5A-BEB1-4010-AB3C-B21FD5E5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74D7-4BB1-4423-B9A2-9F134E67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900-017F-44B6-B5FB-C8570B3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507-FE4E-41F2-9670-9581000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2F8E-76D0-4976-9373-13C9B085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AF90-B9D4-44C3-9F64-A646DFF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FE4-B9F6-41D7-91D8-296777EE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4600-E571-49D2-BE67-BF2B03A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04E-EF53-4EF4-9DE2-EF594BD4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A7F9-D9BE-4B1A-8C3D-F098D05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596D-9438-4166-A2DF-01213A9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CBB-AB61-4F30-B2C1-C5648AC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B17-397B-41E9-A6D2-5B710B6F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55BB-578A-41DD-8A68-E69E4871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79B-F317-4901-9DBA-8D0DD38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070-ACD9-4683-A77F-E9ED8E24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2E0-0E3A-4CF9-95FD-82700974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50E-642C-4B61-8738-86D0504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5E6-DE8F-43CD-BDBF-3A3A1FF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DC0-8EE3-4817-8801-851232F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64B-B0DD-4EEF-BA5A-362F8F7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761-5234-464E-911C-60E72534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EAD2-023C-45B8-AAB5-57E15F97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lfson.ox.ac.uk/~outdoor/pictures/slides/Sea-view%20in%20Pembrokshire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land of th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ue Dolphin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9" descr="Island of the Blue Dolphins"/>
          <p:cNvPicPr/>
          <p:nvPr/>
        </p:nvPicPr>
        <p:blipFill>
          <a:blip r:embed="rId1"/>
          <a:stretch/>
        </p:blipFill>
        <p:spPr>
          <a:xfrm>
            <a:off x="6019920" y="380880"/>
            <a:ext cx="289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an out on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ead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island to meet Dad’s shi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on a clif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that sticks out into the s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066680" y="4419720"/>
            <a:ext cx="7239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ey caugh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ellfis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her net while she was fis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cklace made of sh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ea creature with a she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oped that the bear was long gone since we camped by his emp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dden tra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mal’s d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43200" y="4572000"/>
            <a:ext cx="3276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ffed animal had b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naw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by the playful pupp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w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ugg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666880" y="3733920"/>
            <a:ext cx="3505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w brown fish that were almost hidden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l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al reef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aw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4343400"/>
            <a:ext cx="26672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ives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ne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nimals to make cl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dons connecting muscle and b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ol from shee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38862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ere told to stay far back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av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t mountai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ep valle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water animal with a sh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Pj04222130000[1]"/>
          <p:cNvPicPr/>
          <p:nvPr/>
        </p:nvPicPr>
        <p:blipFill>
          <a:blip r:embed="rId1"/>
          <a:stretch/>
        </p:blipFill>
        <p:spPr>
          <a:xfrm>
            <a:off x="3429000" y="4343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MCj0435211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841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of various large, tough, brown seaweed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stalked kelp Ecklonia radiata"/>
          <p:cNvPicPr/>
          <p:nvPr/>
        </p:nvPicPr>
        <p:blipFill>
          <a:blip r:embed="rId1"/>
          <a:stretch/>
        </p:blipFill>
        <p:spPr>
          <a:xfrm>
            <a:off x="152280" y="6094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narrow ridge of high land jutting out into the wat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191120" y="990720"/>
            <a:ext cx="4038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Sea-view%20in%20Pembroksh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n or resting place of a wild anima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MCAN04487_0000[1]"/>
          <p:cNvPicPr/>
          <p:nvPr/>
        </p:nvPicPr>
        <p:blipFill>
          <a:blip r:embed="rId1"/>
          <a:stretch/>
        </p:blipFill>
        <p:spPr>
          <a:xfrm>
            <a:off x="4648320" y="5029200"/>
            <a:ext cx="1827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long, deep, narrow, valle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Drainage Ravine"/>
          <p:cNvPicPr/>
          <p:nvPr/>
        </p:nvPicPr>
        <p:blipFill>
          <a:blip r:embed="rId1"/>
          <a:stretch/>
        </p:blipFill>
        <p:spPr>
          <a:xfrm>
            <a:off x="0" y="1219320"/>
            <a:ext cx="3759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itten at or worn awa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endo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500239-fx10"/>
          <p:cNvPicPr/>
          <p:nvPr/>
        </p:nvPicPr>
        <p:blipFill>
          <a:blip r:embed="rId1"/>
          <a:stretch/>
        </p:blipFill>
        <p:spPr>
          <a:xfrm>
            <a:off x="4419720" y="3809880"/>
            <a:ext cx="23810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23T20:26:52Z</dcterms:modified>
  <cp:revision>16</cp:revision>
  <dc:subject/>
  <dc:title>Frindle Vocabulary Words</dc:title>
</cp:coreProperties>
</file>